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935C-A4E9-4754-92CE-BBF59A16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8238-114F-4CF5-AFC6-3F633AAC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010C-E5CD-4BF2-89AF-81370813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2F50-F335-49FD-A81E-171A7653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C16A-6F07-4C69-A8CE-4D1FAF20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317-E659-4C88-8D95-768A948B2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1F68-608F-44B3-9C9C-1F8B97B2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040C-565A-4033-A46D-019B0EE9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F93-C458-40B1-80F1-7BBA2A95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A5F-C46D-4B48-A28F-E1F86CCB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26A3-2383-418E-96CF-3BC1CCB0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5058-6637-4A71-A447-C77C3278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933D-7E1C-42AB-84B2-E3AE652C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ADA8-C28A-494F-B23B-34144CB5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A06-4CF0-4C32-AC18-7E02DDD6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2631-F9C5-448C-81F4-86C3C55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7E81-DC3F-40F4-A48F-854411F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A83-948B-43D4-BC72-94C9B936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2D60-CB1B-4B5E-9D02-984D898F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A8BD-19C9-4CEF-916E-5E8BC964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D416-28AA-4C50-A760-B54E6AC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C676-C83A-4480-A769-BAFC761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3E6-806D-4D01-9841-B9E67C4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65D6-20A5-4698-8297-462B425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3473-77E5-43B8-8C2A-C013B737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336D-DCA8-4755-9662-8C806D34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B03D-F45D-4637-8F87-94D9396C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DCFB-0AF6-4102-9319-0641638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53D9-6DA9-4F39-B82E-FCF8174C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623B-8C93-4BA2-9599-FBA8880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794A-A28D-4437-BA71-440961E8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872-1A77-4628-AA15-0C13A86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56D9-ADED-4719-8D13-2041571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E5A0-B541-4663-9980-DE882B2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1AA-433B-412B-AF5B-6FE36ACC6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0B6-8288-4CC2-9B9B-BBF62C39C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 Bold"/>
              </a:rPr>
              <a:t>Recent U.S. policy develo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First to introdu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Food Safety Modernization Ac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Preventive contr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nspection and compli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mported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Enhanced partnershi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impacts on food mar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echnical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 what extent can regulations lead to cost sav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llocative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vious research suggests risk based regulations increase concen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ynamic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conomic theory suggests performance standards foster innovation and adap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o we need a comprehensive frame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nmarket imp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od safety and traceability improvements impact public health outco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ever, there are concerns over wide access to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easuring nonmarket impact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no clear cut ways to measure “distributive justice” of alternative poli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3040" y="549360"/>
            <a:ext cx="8686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on the horiz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946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of food supply is creating new challeng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creasingly entwined supply ch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ternational sou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hort run contractual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e U.S. debate on a single food safety ag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Pros: Risk-based, consistent, public health foc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s: Excessive centralized power, bureaucratic, bud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earc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termine how to best define a food chain wide traceability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aking into account technical and economic dimen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certain to what extent new regulations will impact technical efficiencies in the food ch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vestigate whether HACCP regulations had a positive/negative impact on food innov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velop a comprehensive framework to determine food safety policy impact on technical, allocative and dynamic effici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ap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od safety is critical to food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raceability syste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nable a more effective management of outbrea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tain information for enhanced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nce 1906 the U.S. has led food safety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terms of institutional and regulatory innov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ver the past decade a number of private food safety schemes have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se are mainly farm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uture challenges relate to increasing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Globalized, connected and integrated food ch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ood Safety and Traceability polici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ogo M. Souza Montei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al H. Hoo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food safety and traceabilit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y do we need polic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 overview of food safety policies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is involv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Bioterroris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Food Safety Modernization 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conomic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on the horiz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680" y="151920"/>
            <a:ext cx="952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food safety and traceabilit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979560"/>
            <a:ext cx="86868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Food safety concerns the supply of wholesome and unharmful food to customers and consu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Improving food safety is reducing a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nsumers expect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Traceability is the ability to follow the path of a product through production, processing an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Well designed and effective traceability systems may mitigate the consequences of food safety outbrea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do we need polic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Times New Roman"/>
              </a:rPr>
              <a:t>Food safety and traceability are credence attributes of f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Benefits are mainly avoided public health cost (publ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sts of safer food are mainly borne by the industry (priv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both market and government failures in the provision of these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 of U.S. food safety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9800" y="87588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rst food safety regulation was issued in 19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in purpose was to limit adulteration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DA is crea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uring the 1970/80s legislation followed a command and contro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pasteurization of dairy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990 shift to science/risk based appr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HACCP in meat and poultry pl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mplements these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9800" y="95220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U.S., three Federal Departments have primary responsibilities over food safe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ealth &amp; Human Services (through FDA, C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Agriculture (FSIS, AMS, APH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ome Security (CBP, NBAC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wo agencies have the lion’s share of oversigh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S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tates have an important role in outbreak surveillance, prevention and mitig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nce 2000, a number of retailers/caterers and food manufacturers created private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or example EurepGAP (now GlobalG.A.P.), a modular farm production standard with both food safety and traceability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milar efforts in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May have emerged due to slow legislative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dustry initiatives may condition and anchor the regulatory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Benefits of these private standards 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Flexibility and dynamism (they are quickly updat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strong incentives for farmers and processors to adopt safer practices (through preferred supplier progr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a safer food supply to all of those purchasing from firms imposing these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The are however some iss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ivate standards do not take social welfare into accou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Exclude producers and consumers that can’t comply or afford these produ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There may be distribution and equity issues in the benefits and costs of food safety/traceability in food cha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5T15:55:35Z</dcterms:modified>
  <cp:revision>18</cp:revision>
  <dc:subject/>
  <dc:title>U.S. Policies Affecting Food and Agricultural Marketing</dc:title>
</cp:coreProperties>
</file>